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9F2A-E213-4005-B6FE-4175EA18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Belle de J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9280" y="1413000"/>
            <a:ext cx="8713800" cy="0"/>
          </a:xfrm>
          <a:prstGeom prst="line">
            <a:avLst/>
          </a:prstGeom>
          <a:ln w="19080">
            <a:solidFill>
              <a:srgbClr val="94a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237360"/>
            <a:ext cx="8713800" cy="0"/>
          </a:xfrm>
          <a:prstGeom prst="line">
            <a:avLst/>
          </a:prstGeom>
          <a:ln w="19080">
            <a:solidFill>
              <a:srgbClr val="94a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9280" y="6289560"/>
            <a:ext cx="2089080" cy="45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2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97000"/>
            <a:ext cx="8785440" cy="0"/>
          </a:xfrm>
          <a:prstGeom prst="line">
            <a:avLst/>
          </a:prstGeom>
          <a:ln w="19080">
            <a:solidFill>
              <a:srgbClr val="94a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237360"/>
            <a:ext cx="8785440" cy="0"/>
          </a:xfrm>
          <a:prstGeom prst="line">
            <a:avLst/>
          </a:prstGeom>
          <a:ln w="19080">
            <a:solidFill>
              <a:srgbClr val="94a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6289560"/>
            <a:ext cx="2089080" cy="452520"/>
          </a:xfrm>
          <a:prstGeom prst="rect">
            <a:avLst/>
          </a:prstGeom>
          <a:ln w="0">
            <a:noFill/>
          </a:ln>
        </p:spPr>
      </p:pic>
      <p:cxnSp>
        <p:nvCxnSpPr>
          <p:cNvPr id="45" name=""/>
          <p:cNvCxnSpPr/>
          <p:nvPr/>
        </p:nvCxnSpPr>
        <p:spPr>
          <a:xfrm>
            <a:off x="0" y="2852280"/>
            <a:ext cx="1905840" cy="1802520"/>
          </a:xfrm>
          <a:prstGeom prst="bentConnector4">
            <a:avLst>
              <a:gd name="adj1" fmla="val 25070"/>
              <a:gd name="adj2" fmla="val 112684"/>
            </a:avLst>
          </a:prstGeom>
          <a:ln w="38160">
            <a:solidFill>
              <a:srgbClr val="b4c0ac"/>
            </a:solidFill>
            <a:prstDash val="sysDot"/>
            <a:miter/>
          </a:ln>
        </p:spPr>
      </p:cxnSp>
      <p:cxnSp>
        <p:nvCxnSpPr>
          <p:cNvPr id="46" name=""/>
          <p:cNvCxnSpPr/>
          <p:nvPr/>
        </p:nvCxnSpPr>
        <p:spPr>
          <a:xfrm>
            <a:off x="2771280" y="3030120"/>
            <a:ext cx="577080" cy="183240"/>
          </a:xfrm>
          <a:prstGeom prst="bentConnector3">
            <a:avLst>
              <a:gd name="adj1" fmla="val 49812"/>
            </a:avLst>
          </a:prstGeom>
          <a:ln w="28440">
            <a:solidFill>
              <a:srgbClr val="b4c0ac"/>
            </a:solidFill>
            <a:prstDash val="sysDot"/>
            <a:miter/>
          </a:ln>
        </p:spPr>
      </p:cxnSp>
      <p:cxnSp>
        <p:nvCxnSpPr>
          <p:cNvPr id="47" name=""/>
          <p:cNvCxnSpPr/>
          <p:nvPr/>
        </p:nvCxnSpPr>
        <p:spPr>
          <a:xfrm>
            <a:off x="5460480" y="3212640"/>
            <a:ext cx="529200" cy="1080"/>
          </a:xfrm>
          <a:prstGeom prst="bentConnector2">
            <a:avLst/>
          </a:prstGeom>
          <a:ln w="28440">
            <a:solidFill>
              <a:srgbClr val="b4c0ac"/>
            </a:solidFill>
            <a:prstDash val="sysDot"/>
            <a:miter/>
          </a:ln>
        </p:spPr>
      </p:cxnSp>
      <p:cxnSp>
        <p:nvCxnSpPr>
          <p:cNvPr id="48" name=""/>
          <p:cNvCxnSpPr/>
          <p:nvPr/>
        </p:nvCxnSpPr>
        <p:spPr>
          <a:xfrm flipV="1" rot="10800000">
            <a:off x="7044480" y="2707920"/>
            <a:ext cx="2090160" cy="1945440"/>
          </a:xfrm>
          <a:prstGeom prst="bentConnector4">
            <a:avLst>
              <a:gd name="adj1" fmla="val 21567"/>
              <a:gd name="adj2" fmla="val 111752"/>
            </a:avLst>
          </a:prstGeom>
          <a:ln w="28440">
            <a:solidFill>
              <a:srgbClr val="b4c0ac"/>
            </a:solidFill>
            <a:prstDash val="sysDot"/>
            <a:miter/>
          </a:ln>
        </p:spPr>
      </p:cxnSp>
      <p:sp>
        <p:nvSpPr>
          <p:cNvPr id="49" name=""/>
          <p:cNvSpPr/>
          <p:nvPr/>
        </p:nvSpPr>
        <p:spPr>
          <a:xfrm>
            <a:off x="3348000" y="1773360"/>
            <a:ext cx="2087640" cy="2879640"/>
          </a:xfrm>
          <a:prstGeom prst="rect">
            <a:avLst/>
          </a:prstGeom>
          <a:noFill/>
          <a:ln w="28440">
            <a:solidFill>
              <a:srgbClr val="b4c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1773360"/>
            <a:ext cx="2087280" cy="2879640"/>
          </a:xfrm>
          <a:prstGeom prst="rect">
            <a:avLst/>
          </a:prstGeom>
          <a:noFill/>
          <a:ln w="28440">
            <a:solidFill>
              <a:srgbClr val="b4c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36720" y="2133720"/>
            <a:ext cx="1619280" cy="216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64000" y="2133720"/>
            <a:ext cx="1619280" cy="21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300720" y="2133720"/>
            <a:ext cx="1619280" cy="21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1773360"/>
            <a:ext cx="2087280" cy="2879640"/>
          </a:xfrm>
          <a:prstGeom prst="rect">
            <a:avLst/>
          </a:prstGeom>
          <a:noFill/>
          <a:ln w="28440">
            <a:solidFill>
              <a:srgbClr val="b4c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2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b4c0ac"/>
                </a:solidFill>
                <a:latin typeface="Arial"/>
              </a:rPr>
              <a:t>And there shall the Sussex songs be sung</a:t>
            </a:r>
            <a:r>
              <a:rPr b="0" lang="en-US" sz="3200" spc="-1" strike="noStrike">
                <a:solidFill>
                  <a:srgbClr val="b4c0a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8920" y="5084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m Roper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formation Resources Development Coordinator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Current awareness service coverage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news on medical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on ICT applications, including the use of PDAs in medical education (Project Handfu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resources to support teaching, learning and research, both  print and electr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s to other news f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media coverage of B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s of interest to medical edu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ised updates from Pub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How it’s done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iB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canning of BMJ, THES, LTSN-01, databases, relevant listservs, newsgroups, other blogs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ed on personal web site, moving to bsms.ac.uk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http://www.roper.org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uk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bsm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How to develop it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of use at end of pilot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xonomy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ME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ial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uthoring tool: typepad/moveable typ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on: other medical schools, CHMS, BMA , LTSN-01, etc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For more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www.roper.org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uk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bsm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omrope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.typepad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New medical school developments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mingham review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aluation of the National Expansion of Medical Schools (NEM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publichealth.bham.ac.uk/hiaru/NEMS%20Evaluation%20Intro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School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livering the Doctors of the Fu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oH and GMC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dh.gov.uk/assetRoot/04/07/54/06/04075406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ake in 2005 will have risen by 57% against 1998 bas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What’s hot at BSMS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awareness for medical edu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access: PLOS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urch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4c0ac"/>
                </a:solidFill>
                <a:latin typeface="Arial"/>
              </a:rPr>
              <a:t>BSMS developments</a:t>
            </a:r>
            <a:r>
              <a:rPr b="0" lang="en-GB" sz="3600" spc="-1" strike="noStrike">
                <a:solidFill>
                  <a:srgbClr val="b4c0ac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b4c0a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medical schools in Engla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dfo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r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urh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Y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W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nins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36 students finished Y1 end June, building by similar intakes to steady state in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nership between two HE institutions and NHS (Brighton &amp; Sussex Universities Hospitals NHS Tru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Why Brighton?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ners’ strength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Brighton: history of educating health professio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Sussex: strong life sciences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S: strong clinical base and local health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No dedicated “medical library”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SMS staff and students are full members of both universities, have access rights in the NHS and are triply bles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rint col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electronic collections, integrated with BSMS-only resources, including NHS core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libraries use same LMS, including reading list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Blogging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g=weblog (first used December 199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: individual or collaborative, personal musings or an “official”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its purest form, a log of sites vis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more useful by development of RSS and news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my blog for mor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OED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600200" y="-1295280"/>
            <a:ext cx="11995200" cy="948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4c0ac"/>
                </a:solidFill>
                <a:latin typeface="Arial"/>
              </a:rPr>
              <a:t>The need</a:t>
            </a:r>
            <a:endParaRPr b="0" lang="en-US" sz="3600" spc="-1" strike="noStrike">
              <a:solidFill>
                <a:srgbClr val="b4c0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edical school, many faculty new to undergraduate teaching/teaching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 teaching staff in Phase 1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medicine and education in state of permanent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8:12:02Z</dcterms:created>
  <dc:creator>Tom Roper</dc:creator>
  <dc:description/>
  <dc:language>en-US</dc:language>
  <cp:lastModifiedBy>Tom Roper</cp:lastModifiedBy>
  <cp:lastPrinted>2004-06-11T08:39:22Z</cp:lastPrinted>
  <dcterms:modified xsi:type="dcterms:W3CDTF">2004-07-21T15:50:06Z</dcterms:modified>
  <cp:revision>30</cp:revision>
  <dc:subject/>
  <dc:title>Blogging for BS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67086703</vt:r8>
  </property>
  <property fmtid="{D5CDD505-2E9C-101B-9397-08002B2CF9AE}" pid="3" name="_AuthorEmail">
    <vt:lpwstr>L.Paliotta@bsms.ac.uk</vt:lpwstr>
  </property>
  <property fmtid="{D5CDD505-2E9C-101B-9397-08002B2CF9AE}" pid="4" name="_AuthorEmailDisplayName">
    <vt:lpwstr>Paliotta Laura</vt:lpwstr>
  </property>
  <property fmtid="{D5CDD505-2E9C-101B-9397-08002B2CF9AE}" pid="5" name="_EmailSubject">
    <vt:lpwstr>A couple of things: BSMS house style, PowerPoint template and c/a blog hosting</vt:lpwstr>
  </property>
</Properties>
</file>